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B8B-81A2-4BA7-892E-032141A0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62F-998E-4AFB-853B-2408EE2B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627-43B6-42FB-A98B-434BD9D0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E00-7259-4E5D-B061-08B94C91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79AE-7614-4668-A106-1C363A6F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C964-B451-40DB-8DE6-74F79787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C812-85A1-4CAF-B119-CDF221BB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CA74-226D-46F7-A12E-1098E453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4521-5474-4AFA-84AD-56605F43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3129-4E02-4402-9770-987EE95B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02E9-0F7D-4531-B88B-3BB78C0D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938-D934-4559-99A6-3983BB44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BE28-5227-4567-87EC-04259C9D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0A2C-AC30-4AFA-BB2C-287843B6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A840-6187-4D9D-90D5-639EEB57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8DE0-C72F-4282-95C5-3A33E5D4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27EA-06BB-4910-9D64-7E849B1D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D5BF-7751-4FB6-A161-0D23051D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B51C9-66E5-4F0F-A37D-96BB70F2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97DA4-D4B6-4E1C-BDAA-4220B16C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2E4D0-B012-4228-B822-D19DE85C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D1A0-DC7E-43A3-8F38-7779152C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E29-91F2-4A7C-9585-5D70986E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650AB-9D78-40F6-9027-363B5A6B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1AAF-462F-4642-9DFE-3C4615D0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4D62F-7284-4CCD-8A92-D24801ED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7E121-40E7-463E-A002-DF9150F4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A96C-9215-4679-953E-9E13C637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9B9C3-72B7-4DB6-A93E-0CC481AA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FA477-62C2-4851-96DD-AEC59648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BB66A-5735-4588-9F4A-FDAD4792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4FD52-EE5E-4153-8A64-6B103265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9B94-0C2F-429F-B9C8-7C13C85B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AA5-AA6A-4A3A-9BDC-6F8D040E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65E3-DAC6-4309-85FA-5C73AFB9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CD75-8004-4C61-A5AC-82E01CC2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B29E2-6064-4841-A18B-7462EB34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5BE5-F78F-4B40-BD36-BC14A1DD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4E3C6-AEAA-46B8-950A-057A6C40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0CCD-EA0A-48C2-9DB2-01662A4D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9F097-BD91-451C-A8C8-F3226A1C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4EEDC-5F69-41A0-8FB0-2C38C42B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3DB6-D044-4E57-9DEE-20441713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D4102-7FA8-46A4-9EE0-B06E0A89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D03-AD95-493F-8C86-E1F388A5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A529F-3CDD-4FDC-A471-16A51041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F8140-B665-489F-B490-1925200B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66561-E315-43C3-85FF-74E72DC3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88F2D-6853-4ABA-B002-95B4D23A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9A4F8-FF95-4C34-AA72-626F4200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AC72A-CEE1-430E-AC7B-554BCC4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04065-6C12-4D91-9A00-0CE2498A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94845-F2F1-4515-97E6-B4ABC11B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69F0A-0EBA-4446-81DB-46E42817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C59CF-EF1B-420A-940C-D8979733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6BC-10AD-41B4-9A37-611DA1E7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B6CD-0070-48B1-9B42-BFAB86AE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687-DC6B-4B1A-9066-2C60A70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A2F-F93F-4852-9CF5-1175ADC1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D25-F188-4B14-8C90-FF31DC51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0AF3-8D64-4BC8-BBB9-B4B23068C5F0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0C6F-3F85-48B7-86C1-EA516505E9B8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C301-4ED3-4D2F-9D99-D7260637D749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8BDD-1968-4D6F-A24C-69E4D9C4663D}" type="slidenum">
              <a:rPr b="0" lang="en-GB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EF96-50E3-4D62-B41C-F5C5E1D5B19B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A Critical Perspectiv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11280" y="765000"/>
            <a:ext cx="38163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A genre that blurs fact, fiction and realis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Hard to define – a hybrid genre that continues to chang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All reality shows are constructed and audience viewpoint manipulat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Is ‘reality tv’ as a label ironic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Inhabits a borderline territory between information and entertainmen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he genre is often used to illustrate arguments about the alleged ‘dumbing down’ of televis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ypically ‘lifestyle’ self improvement/makeover programmes involving real people in real situat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se people usually are experiencing some sort of trauma in their lives with regards to their appearance, their house/garden etc which is then transformed and improved by the exper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ransformation...of an individual (How to look Good Naked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Group (Supernanny, Jamie’s Kitchen, Brat Cam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use (Changing Room, 60 minute Makeov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1270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586640" y="1268280"/>
            <a:ext cx="1557360" cy="2160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451640" y="5695920"/>
            <a:ext cx="1692360" cy="1162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67640" y="3429000"/>
            <a:ext cx="147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oyeurism is a term used to describe the pleasure that people get from watch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ther peopl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uch of the interest in reality TV surrounds the audience’s voyeuristic interest in people having sex in front of the camer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ernet has influenced how we consume TV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is essentially a voyeuristic medium – audience is generally anonymous but able to access a whole range of images and information about other people’s liv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When experts or other contestants criticise participants or the show’s format involves humili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X factor/Britain’s got Tal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Big Brot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I’m a Celebrity Get me Out of He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3348000" y="465300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98764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he reverse side of voyeurism is exhibitionis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he web encourages people to behave in an exhibitionist way that they might not consider in public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he webcam allows people to give worldwide access to the intimate details of their liv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lebrity status was once reserved for those who had achieved highly in their field, eg. Hollywood actors, sport sta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lebrity has now become central to our everyday liv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7338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our media saturated society there is an insatiable demand for celebrity to fill TV schedules and newspaper column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manufacture of celebrities is essential to fuel this demand – reality TV is one way of doing thi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voyeurism and exhibitionism that is now central to our culture has its origins in and is a reflection of society’s fixation with surveillanc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ost modern culture has taken surveillance and turned it into an opportunity for people to become stars in their own film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676920" y="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Why do we continue to watch?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he variety of formats means there is something for everyo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We enjoy the feeling of empowerment when we can influence the outcome – Big Broth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We enjoy emotional realism as we recognise and perhaps empathise with the emotions (insecurity, excitement, antagonism etc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9640" cy="1482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635280" y="5334120"/>
            <a:ext cx="18003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ead pages 8-11 from textbook on ‘Celebrity’ and make not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9:37:16Z</dcterms:created>
  <dc:creator>Grainne</dc:creator>
  <dc:description/>
  <dc:language>en-US</dc:language>
  <cp:lastModifiedBy>declan</cp:lastModifiedBy>
  <dcterms:modified xsi:type="dcterms:W3CDTF">2010-09-08T16:37:08Z</dcterms:modified>
  <cp:revision>25</cp:revision>
  <dc:subject/>
  <dc:title>Reality TV</dc:title>
</cp:coreProperties>
</file>